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A61E-F4F2-49F9-BCEB-7A0D1B54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4EA1-76F7-404D-8914-025684A5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9BDB-FD8D-4A60-8A82-8E7724D3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3BB1-6D00-436A-B8F3-06B33A64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655D-6093-49AC-8465-77095513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BC79-ADFA-4A85-A6DB-DE91F504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CEB0-F7F3-48F1-AAC2-5DBB4221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4CC-9E8B-49D3-92EA-0ABA66B8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B8C6-D1EA-4F9A-93B4-54B33D6C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720E-2D41-4F02-806B-779E82F0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9BD-636D-44D4-AB93-4E823FAE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3E8-7A4A-49D5-A88B-E58FA96E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EBD4-208E-42F3-BDD3-322FA3309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>
            <a:alpha val="8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71800" y="228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Moroc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"/>
              </a:rPr>
              <a:t>A country on the northwest corner of Af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www.worldatlas.com/webimage/countrys/africa/maafrica.gif"/>
          <p:cNvPicPr/>
          <p:nvPr/>
        </p:nvPicPr>
        <p:blipFill>
          <a:blip r:embed="rId1"/>
          <a:srcRect l="7500" t="18240" r="7500" b="6555"/>
          <a:stretch/>
        </p:blipFill>
        <p:spPr>
          <a:xfrm>
            <a:off x="4722840" y="0"/>
            <a:ext cx="2668680" cy="2590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Map of Morocco"/>
          <p:cNvPicPr/>
          <p:nvPr/>
        </p:nvPicPr>
        <p:blipFill>
          <a:blip r:embed="rId2"/>
          <a:srcRect l="4996" t="2279" r="4996" b="11112"/>
          <a:stretch/>
        </p:blipFill>
        <p:spPr>
          <a:xfrm>
            <a:off x="533520" y="0"/>
            <a:ext cx="2438280" cy="257328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1981080" y="2590920"/>
            <a:ext cx="487692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onstitutional Monarc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itol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Rab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ab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igion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lam 99%,  Christian 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teracy Rat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ron ore, fish, sa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8" descr="STREET LIFE SCENE - Marrakech, Marrakech"/>
          <p:cNvPicPr/>
          <p:nvPr/>
        </p:nvPicPr>
        <p:blipFill>
          <a:blip r:embed="rId3"/>
          <a:stretch/>
        </p:blipFill>
        <p:spPr>
          <a:xfrm>
            <a:off x="-6480" y="3956040"/>
            <a:ext cx="2146320" cy="2146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11"/>
          <p:cNvSpPr/>
          <p:nvPr/>
        </p:nvSpPr>
        <p:spPr>
          <a:xfrm>
            <a:off x="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 2"/>
                <a:ea typeface="Wingdings 2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nake Charmers</a:t>
            </a:r>
            <a:r>
              <a:rPr b="0" lang="en-US" sz="14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6477120" y="57913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que in Casablan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6" descr="http://t3.gstatic.com/images?q=tbn:ANd9GcQ3MZNIxzGhEMOBpQXwwvW5XZ34xrE5uAdnLYdA6jCbuyPTyIIA"/>
          <p:cNvPicPr/>
          <p:nvPr/>
        </p:nvPicPr>
        <p:blipFill>
          <a:blip r:embed="rId4"/>
          <a:stretch/>
        </p:blipFill>
        <p:spPr>
          <a:xfrm>
            <a:off x="5608800" y="3273480"/>
            <a:ext cx="3541680" cy="24876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5"/>
          <p:cNvSpPr/>
          <p:nvPr/>
        </p:nvSpPr>
        <p:spPr>
          <a:xfrm>
            <a:off x="3124080" y="60958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ag of Moroc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Flag of Morocco"/>
          <p:cNvPicPr/>
          <p:nvPr/>
        </p:nvPicPr>
        <p:blipFill>
          <a:blip r:embed="rId5"/>
          <a:stretch/>
        </p:blipFill>
        <p:spPr>
          <a:xfrm>
            <a:off x="2819520" y="4572000"/>
            <a:ext cx="2427120" cy="1495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http://www.free-press-release.com/uploads/news/2011/03/29/1301432320_img3.jpg"/>
          <p:cNvPicPr/>
          <p:nvPr/>
        </p:nvPicPr>
        <p:blipFill>
          <a:blip r:embed="rId6"/>
          <a:stretch/>
        </p:blipFill>
        <p:spPr>
          <a:xfrm>
            <a:off x="7321680" y="-6480"/>
            <a:ext cx="1828800" cy="27561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7"/>
          <p:cNvSpPr/>
          <p:nvPr/>
        </p:nvSpPr>
        <p:spPr>
          <a:xfrm>
            <a:off x="7391520" y="27432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roccan Cul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8"/>
          <p:cNvSpPr/>
          <p:nvPr/>
        </p:nvSpPr>
        <p:spPr>
          <a:xfrm rot="20290200">
            <a:off x="2975760" y="1835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Arial Black"/>
              </a:rPr>
              <a:t>Sample Sl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200400" y="380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80880" y="380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p of Cou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5867280" y="457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p of reg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2286000" y="26668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untry Fa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vern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ito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lig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teracy Rat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533520" y="6019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ag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28600" y="2971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icture description #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6629400" y="28195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icture description #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6705720" y="60199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icture description #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8:14:02Z</dcterms:created>
  <dc:creator>poweruser</dc:creator>
  <dc:description/>
  <dc:language>en-US</dc:language>
  <cp:lastModifiedBy>poweruser</cp:lastModifiedBy>
  <dcterms:modified xsi:type="dcterms:W3CDTF">2011-10-30T18:59:46Z</dcterms:modified>
  <cp:revision>5</cp:revision>
  <dc:subject/>
  <dc:title>Slide 1</dc:title>
</cp:coreProperties>
</file>